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8054-984C-493C-B769-4C3F7E74D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DE78-FA28-4B98-A166-F0B23F429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228600" y="4190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8E4E-CEBC-49D8-94D1-FCD3768B3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228600" y="4190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08C1-A08D-4AA7-8311-9C8722ACF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52280" y="4190760"/>
            <a:ext cx="6553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B3AF-53DF-4AC6-BF6B-A45F4A099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52280" y="4114800"/>
            <a:ext cx="65534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7AEB-6A6D-4DA2-B2AD-10213D127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304920" y="43434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DAF9-73BE-41CD-BE06-29110FA78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228600" y="4114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3DF9-5D50-4F26-BA96-09A599114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A8F4-46E9-43EF-B79A-23196CE2A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228600" y="419076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49E8-904B-48C1-B1C2-E311F7C06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304920" y="4190760"/>
            <a:ext cx="6324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0F77-8CC3-407F-962B-FF86B1FB0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52280" y="4267080"/>
            <a:ext cx="6553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1144-D201-433C-B907-A13177A7A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04920" y="4343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4D86-EADB-43DC-B0FA-26FA12169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52280" y="4267080"/>
            <a:ext cx="6553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66C3-7D95-49B3-ABAD-C233AB863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52280" y="4267080"/>
            <a:ext cx="6553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FF6A-3681-4239-A1A7-471F57F6B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94E5-6322-41AB-932D-B1981F841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D917-DFA1-4968-AF38-888B7E5DF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228600" y="41907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FB4C-F849-4D15-98BE-426CDC2C5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228600" y="41911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F0F6-B951-4F75-BE10-A4C843E22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380880" y="42670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1252-F2E4-4FC9-985E-FB181D506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52280" y="41907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74C2-3707-4578-B8E2-1A918EB96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228600" y="43434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5D34-045D-428A-ACE1-FA4EF73BB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52280" y="419076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B799-FA36-4034-9A0E-E6075DB6A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6840" y="4343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4485-1366-4928-BCA5-2D68F86F0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228600" y="43434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58E0-9758-4E74-82AC-9C30BF7F5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304920" y="4343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CDDE-4811-42C7-9264-5EE353830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52280" y="4190760"/>
            <a:ext cx="65534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F5C8-9C9F-4524-8A1C-ED8458D2B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5A18-D2AD-4E19-A71E-6208E7A59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3C4F-AF06-4F3B-986F-E1594ACAD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F77C-0A6F-4682-828E-E3FA22F2A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5FC7-7278-4E8B-9F2F-6477765F6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1ED6-08B9-49D6-85CB-B36B3D7EC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1D95-F1ED-41FA-9D58-92A94090A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DA58-02BD-4A1D-B863-C4117C470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228600" y="43434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AFDB-14B7-4283-BD83-06B3AD407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52280" y="419076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CB0E-919D-4D98-8C69-D80B6F17F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5C0C-CA0D-4506-9256-38F7C9FA3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BE98-5FD9-4C22-B553-CD3FAAFA0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52280" y="4114800"/>
            <a:ext cx="65534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3FF7-2C48-4A6D-8F0F-816905661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6840" y="4343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4B44-BB3B-4FD1-8EF8-8848BA7B4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304920" y="4343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8AFE-BCB9-404E-97E6-1B983012F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6840" y="4343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81AC-0D11-4736-8983-1C4041E4D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6840" y="4343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CD6-6F2A-4DE4-9BC1-B3F2F42C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378-29FE-4DA2-B178-A6195EBC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776-B4DB-4B22-8ACE-9107EBF2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989-C7F6-4764-A927-B40FF479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1ADF-917B-4D81-9802-FB5DDF68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2851-E0AD-4CFC-A784-98281D6F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DB34-AA63-415D-838B-339CA607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9AE8-3B9D-4067-B5F5-8DF3E0A1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90E8-BD5F-4839-BEC6-BD30B3B4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ABBA-BF7A-46CB-97D4-5F83237E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DD00-1668-4F52-A6AD-44883AD3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DFF-550C-4DB3-97EF-B1A69CF0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7D07-3E4D-4902-952E-9F0FC4B8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609B-CCBE-4D3A-BFCF-71C1993F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B2BB-9D3B-4D88-ABF8-7AC53565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8903-9769-49DD-BE3B-080CD32E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D0A8-2783-4179-A9B1-E31A11B8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99B-ECE0-4FB9-9C6F-A5A9D2FE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C09-0B1A-4688-A797-C97E43B8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081-5DB3-4F01-9F63-CBA8E10C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E60-E9A8-44A4-8770-2F0EF43D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0A9-FB34-4416-90C3-1072680B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25C-DA1A-4989-B087-E8E203D5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AA9-19B6-494D-93BB-8698B28D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8392-D903-4D62-9AF2-E4C3E7A4BF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83DA-E766-4350-9DC4-7BA698F7102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717040" cy="762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anguage Developmen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an loves Jo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loves Sus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an Joe lo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glis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ove yo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anis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you lo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glish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green tre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anish: the tree gree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870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nolog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gmat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3276360"/>
            <a:ext cx="8458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ommunicative and social uses of spee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 door shu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 milk in the fridg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your room clea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687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013120"/>
            <a:ext cx="769608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linguistic peri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borns distinguish the sound of human vo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- 8 week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o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- 6 month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bb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69608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gression of cooing and babbling follows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iversal patter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ies, until around 6 months old, can produce sounds/phonemes that their parents cannot produce or distingu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/Biology plays an important role in t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merg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cooing &amp; babbl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 of the child’s vocalization is also affected by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nguistic environ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075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13120"/>
            <a:ext cx="769608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months       first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2 years     200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6 years     15,000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6870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ophr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ngle word that seems to represent an entire sente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07880"/>
            <a:ext cx="687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ortant peop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s that mo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s that can be acted up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miliar ac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uns before verb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Exten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ppropriate limits of the meaning of wor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407880"/>
            <a:ext cx="6870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 Components of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honolog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emantic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s of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mma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ngements of words into sent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agma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uses of spe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exten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a word too narrow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exten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a word too broad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rors of segment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es one word end and another beg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ast-mapping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the context to guess the meaning of a wor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687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rphological Develop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 morphem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s to form plural nou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ed to form past ten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s to form 3rd person singula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action of verb “to be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egular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3520" y="2057400"/>
          <a:ext cx="8188200" cy="41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188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6870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ctical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legraphic spee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 out the smaller and less important words, like articles and prepos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y str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lly cha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mmy c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re cook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is really gramma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Explo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nguage explosion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ust the result of simple semantic development; the chil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ust adding more words to his/her vocabula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is mastering basic syntactic and morphological ru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687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0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s/no ques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is a doggi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- ques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...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...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...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870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s/No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52640"/>
            <a:ext cx="769608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my g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pl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mommy g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 pl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my did go, didn’t sh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870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addy eat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ommy do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addy is eat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 did yesterd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daddy eat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nolo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13120"/>
            <a:ext cx="769608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honemes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smallest units of sound that can change the meaning of a wor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d/ “dog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l/ “log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68706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320920"/>
            <a:ext cx="7696080" cy="25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mil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81800" indent="-181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I g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81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81800" indent="-181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not drink mil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81800" indent="-181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t not mil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81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81800" indent="-181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don’t drink mil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 of Language Acqui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ALIST (e.g., Skinne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al conditio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nt conditio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407520"/>
            <a:ext cx="6870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mi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s do not usually provide feedback for grammatically incorrect sente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do provide feedback for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uth 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sente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no like spin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m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es, I kn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m sleep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m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, you’re awak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407520"/>
            <a:ext cx="6870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mi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s seem to provide subtle feedback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ggie runned 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es, the doggie ran 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407520"/>
            <a:ext cx="6870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mi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when parents provide feedback, it doesn’t work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body don’t like 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, say “nobody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esn’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ike me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body don’t like 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en carefully, “nobody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esn’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ike me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oh, nobody don’t like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407520"/>
            <a:ext cx="6870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mi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ldren can only imitate phrases that they can already produ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407520"/>
            <a:ext cx="6870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mi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produce grammatically correct sentences that are unique and that they could have never heard anybody before s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407520"/>
            <a:ext cx="6870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mi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ldren make systematic  mistakes in their early languag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go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ggie runned aw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407520"/>
            <a:ext cx="6870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mi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ldren systematic mistakes reflect their rule-following behavio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ren’s mastery of the different sounds of their languag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 a mechanical sk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stery of different sounds, or phonemes, develops along with the child’s grow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derstanding of the meanings of wo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407880"/>
            <a:ext cx="687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VIST (Chomsk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28720" y="2198160"/>
            <a:ext cx="7267680" cy="32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mans are biologically predisposed to acquire languag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apacity to comprehend and produce language is innat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Acquisition Device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A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3059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ologically based system, programmed to recognize the universal rules that underlie any language the child might he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contains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iversal gramma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V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3059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pacity to recognize the rules that underlie language is inn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linguistic environment dictates which particular language a child will spea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ecific language is NOT genetically transmit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68706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ort for Nativist The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is acquired rapidl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is acquired with little explicit teac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around the world reach language milestones at around same 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itive period for language acqui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nolo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013120"/>
            <a:ext cx="769608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v/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b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ee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ee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i/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i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2960" y="1047600"/>
            <a:ext cx="6553080" cy="1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nology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y of the meanings of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pholog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: arrangement of words into senten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ax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: use of grammatical mark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6870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phe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units of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6870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phe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ea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speak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ldl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8:49:39Z</dcterms:created>
  <dc:creator>Cecilia Wainryb</dc:creator>
  <dc:description/>
  <dc:language>en-US</dc:language>
  <cp:lastModifiedBy>College of Education</cp:lastModifiedBy>
  <dcterms:modified xsi:type="dcterms:W3CDTF">2006-07-06T16:17:31Z</dcterms:modified>
  <cp:revision>38</cp:revision>
  <dc:subject>Psych 3220 (2004)</dc:subject>
  <dc:title>Language Development</dc:title>
</cp:coreProperties>
</file>